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33E60-0DE0-411A-9DA5-22092113A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DF483-3CCE-47F4-9846-0148AEA75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E65A-278D-4A05-8D43-AF7A9742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2B4FE-AE6E-495C-944F-857B0AB49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1DF31-1D13-4F53-9273-DB1FE6E0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1D84-1181-4999-BFC3-1837DDC7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D7E2-4197-4017-859E-4F0F80B57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AA50A-282E-40C9-ABCB-DBFB44A2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E7E0-739D-4C0C-B934-4CB78E600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E0C3-E275-4CFF-9965-D58DCF3F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F001-32CD-41B7-9C17-33028278D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478C-7041-4F7E-B61D-B67A96DA7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32EA-3728-4BEC-8634-FEB3FC27D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quia.com/quiz/1169917.html?AP_rand=1424365007"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d. Sep. 4,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hoice, not chance, determines destiny.” ~</a:t>
            </a:r>
            <a:r>
              <a:rPr b="0" i="1" lang="en-US" sz="3200" spc="-1" strike="noStrike">
                <a:solidFill>
                  <a:srgbClr val="000000"/>
                </a:solidFill>
                <a:latin typeface="Arial"/>
              </a:rPr>
              <a:t>Author Unknown</a:t>
            </a:r>
            <a:endParaRPr b="0" lang="en-US" sz="3200" spc="-1" strike="noStrike">
              <a:solidFill>
                <a:srgbClr val="000000"/>
              </a:solidFill>
              <a:latin typeface="Arial"/>
            </a:endParaRPr>
          </a:p>
        </p:txBody>
      </p:sp>
      <p:sp>
        <p:nvSpPr>
          <p:cNvPr id="43" name=""/>
          <p:cNvSpPr/>
          <p:nvPr/>
        </p:nvSpPr>
        <p:spPr>
          <a:xfrm>
            <a:off x="0" y="25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 name="Picture 2" descr="Calvin and Hobbes"/>
          <p:cNvPicPr/>
          <p:nvPr/>
        </p:nvPicPr>
        <p:blipFill>
          <a:blip r:embed="rId1"/>
          <a:stretch/>
        </p:blipFill>
        <p:spPr>
          <a:xfrm>
            <a:off x="838080" y="1981080"/>
            <a:ext cx="7315200" cy="2305080"/>
          </a:xfrm>
          <a:prstGeom prst="rect">
            <a:avLst/>
          </a:prstGeom>
          <a:ln w="0">
            <a:noFill/>
          </a:ln>
        </p:spPr>
      </p:pic>
      <p:sp>
        <p:nvSpPr>
          <p:cNvPr id="45" name=""/>
          <p:cNvSpPr/>
          <p:nvPr/>
        </p:nvSpPr>
        <p:spPr>
          <a:xfrm>
            <a:off x="0" y="43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for Toda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Wikispaces page (URL listed on top of syllab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s vs. Details (Seeing the forest through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Sentences (The umbrella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idea is the overarching topic of the passage. Passages can be short (a sentence or a few sentences) or long (an essay, an article, a chapter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 basic quiz to help us identify main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imple Main Ideas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are the information that support the main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loose analogy, if the main idea is the forest, the details are the tr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people, “can’t see the forest through the trees,” which means they think that a detail is the main idea. This is a common err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aragraph</a:t>
            </a:r>
            <a:endParaRPr b="0" lang="en-US" sz="4400" spc="-1" strike="noStrike">
              <a:solidFill>
                <a:srgbClr val="000000"/>
              </a:solidFill>
              <a:latin typeface="Arial"/>
            </a:endParaRPr>
          </a:p>
        </p:txBody>
      </p:sp>
      <p:sp>
        <p:nvSpPr>
          <p:cNvPr id="53" name="PlaceHolder 2"/>
          <p:cNvSpPr>
            <a:spLocks noGrp="1"/>
          </p:cNvSpPr>
          <p:nvPr>
            <p:ph/>
          </p:nvPr>
        </p:nvSpPr>
        <p:spPr>
          <a:xfrm>
            <a:off x="228600" y="838080"/>
            <a:ext cx="876312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le-female conversation is cross-cultural communication. Culture is simply a network of habits and patterns gleaned from past experience, and women and men have different past experiences. From the time they’re born, they’re treated differently, talked to differently, and talk differently as a result. Boys and girls grow up in different worlds, even if they grow up in the same house. And as adults they travel in different worlds, reinforcing patterns established in childhood. These cultural differences include different expectations about the role of talk in relationships and how it fulfills that r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ctivity</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Vocabulary: Read from “Types of Vocabulary” on p. 37 to “New Words for Old” on p. 39. Glance at “Some Sources of Modern English Words” but don’t spend much time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group recorder to wri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ain idea of this entire pass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ize it in a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the details (you should need a few words or a phrase to describe each det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Sentences</a:t>
            </a: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ic sentence acts like an umbrella statement in that it covers all of the details that follow it.</a:t>
            </a:r>
            <a:endParaRPr b="0" lang="en-US" sz="2800" spc="-1" strike="noStrike">
              <a:solidFill>
                <a:srgbClr val="000000"/>
              </a:solidFill>
              <a:latin typeface="Arial"/>
            </a:endParaRPr>
          </a:p>
        </p:txBody>
      </p:sp>
      <p:pic>
        <p:nvPicPr>
          <p:cNvPr id="59" name="" descr=""/>
          <p:cNvPicPr/>
          <p:nvPr/>
        </p:nvPicPr>
        <p:blipFill>
          <a:blip r:embed="rId2"/>
          <a:stretch/>
        </p:blipFill>
        <p:spPr>
          <a:xfrm>
            <a:off x="3352680" y="16002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endParaRPr b="0" lang="en-US" sz="4400" spc="-1" strike="noStrike">
              <a:solidFill>
                <a:srgbClr val="000000"/>
              </a:solidFill>
              <a:latin typeface="Arial"/>
            </a:endParaRPr>
          </a:p>
        </p:txBody>
      </p:sp>
      <p:sp>
        <p:nvSpPr>
          <p:cNvPr id="61"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ents of children with disabilities have additional responsibilities and worries. Their children require specialized accommodations that can take time or cost money such as occupational therapy. They also need to develop individual educational plans with the school which requires meeting with faculty and staff. These disabled children can do many of the same tasks non-disabled children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Wiki page: Second Week of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ad hand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last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26:59Z</dcterms:created>
  <dc:creator>NOCCCD</dc:creator>
  <dc:description/>
  <dc:language>en-US</dc:language>
  <cp:lastModifiedBy>NOCCCD</cp:lastModifiedBy>
  <dcterms:modified xsi:type="dcterms:W3CDTF">2013-09-04T20:40:28Z</dcterms:modified>
  <cp:revision>4</cp:revision>
  <dc:subject/>
  <dc:title>Wed. Sep. 4, 2013</dc:title>
</cp:coreProperties>
</file>